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E4A3-331F-431F-B390-3607E3E4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2410-620A-47FA-ACEF-E076E6E0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83A-A67C-4B85-8B21-C1CE1CDA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F7F2-3648-48A8-B998-48002A30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20D9-FF82-4FF2-B7BB-390052D7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62E2-332D-42F7-B756-1AFDA580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7CB4-AEC4-4925-9BDF-D019B223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2AA-47AF-4B66-8748-893934D2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0C51-6487-466C-A90F-B55F491C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EB5-F8CA-4DA1-9A77-0E8DC22D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B6A5-1EBD-4B5F-8F8A-373169C8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CB3E-AEE0-4BB9-97A7-1D224458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3800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6DBC-94FA-4192-AB05-454E44FB1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3800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733920" y="1219320"/>
            <a:ext cx="16002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772400" y="57913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3800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429000" y="1523880"/>
            <a:ext cx="2209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3800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514600" y="1905120"/>
            <a:ext cx="4800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3800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514600" y="2286000"/>
            <a:ext cx="3962520" cy="24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3800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981080" y="2209680"/>
            <a:ext cx="49532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3800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62520" y="2286000"/>
            <a:ext cx="1752480" cy="23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3800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362320" y="2743200"/>
            <a:ext cx="4343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3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3800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419720" y="1905120"/>
            <a:ext cx="547560" cy="26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3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4:13:09Z</dcterms:created>
  <dc:creator>Topeka Public Schools</dc:creator>
  <dc:description/>
  <dc:language>en-US</dc:language>
  <cp:lastModifiedBy>Topeka Public Schools</cp:lastModifiedBy>
  <dcterms:modified xsi:type="dcterms:W3CDTF">2005-09-06T14:18:59Z</dcterms:modified>
  <cp:revision>1</cp:revision>
  <dc:subject/>
  <dc:title>PowerPoint Presentation</dc:title>
</cp:coreProperties>
</file>